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ABC-5AB3-4713-AE93-AE34BDCD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917-4353-44FB-B360-807CC135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FE9-065B-40B2-9319-703D8F05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58F7-47E5-4729-B76F-5DEC9D8C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135-ECDD-49E1-A552-11A22549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C90-39AB-4250-B5B9-AB02DD84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A684-1A71-46B1-A2E7-763B9445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B2B-DE89-4FC3-9C48-F3B918B6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A17-6294-4CF2-B166-346A0148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F60-813B-4B51-A8C1-A35A33AE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78CD-7C2C-4FD7-8A3E-E4D81B4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F84-FC3D-4027-BF1D-4FF980EF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BE64-919C-413B-AE5F-6A390A85628E}" type="slidenum">
              <a:rPr b="0" lang="pt-P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Exemplos: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6 000 000 cm </a:t>
            </a: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 6 000 000 cm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60 km </a:t>
            </a:r>
            <a:br>
              <a:rPr sz="40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a-se 5 casas para a esquerda a partir das unidades)</a:t>
            </a:r>
            <a:br>
              <a:rPr sz="2400"/>
            </a:br>
            <a:br>
              <a:rPr sz="2400"/>
            </a:b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10 km = 1 000 000 cm </a:t>
            </a:r>
            <a:br>
              <a:rPr sz="4400"/>
            </a:b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(conta-se 5 casas para a direita a partir das unidad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907920"/>
          <a:ext cx="8229600" cy="75096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l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t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â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27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43" name="Line 19"/>
          <p:cNvSpPr/>
          <p:nvPr/>
        </p:nvSpPr>
        <p:spPr>
          <a:xfrm flipH="1">
            <a:off x="5148000" y="2708280"/>
            <a:ext cx="14436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20"/>
          <p:cNvSpPr/>
          <p:nvPr/>
        </p:nvSpPr>
        <p:spPr>
          <a:xfrm flipH="1">
            <a:off x="4858920" y="2637000"/>
            <a:ext cx="14436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21"/>
          <p:cNvSpPr/>
          <p:nvPr/>
        </p:nvSpPr>
        <p:spPr>
          <a:xfrm flipH="1">
            <a:off x="4571640" y="2637000"/>
            <a:ext cx="14436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2"/>
          <p:cNvSpPr/>
          <p:nvPr/>
        </p:nvSpPr>
        <p:spPr>
          <a:xfrm flipH="1">
            <a:off x="4067280" y="2565360"/>
            <a:ext cx="28872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23"/>
          <p:cNvSpPr/>
          <p:nvPr/>
        </p:nvSpPr>
        <p:spPr>
          <a:xfrm flipH="1">
            <a:off x="3851280" y="2637000"/>
            <a:ext cx="21600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25"/>
          <p:cNvSpPr/>
          <p:nvPr/>
        </p:nvSpPr>
        <p:spPr>
          <a:xfrm>
            <a:off x="4500720" y="3068640"/>
            <a:ext cx="0" cy="9367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684360" y="1268280"/>
            <a:ext cx="75596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0 k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95280" y="907920"/>
          <a:ext cx="8229600" cy="12258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175040"/>
                <a:gridCol w="1176120"/>
                <a:gridCol w="1174680"/>
                <a:gridCol w="1176480"/>
              </a:tblGrid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l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ctó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â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íme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61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9bd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1" name="AutoShape 21"/>
          <p:cNvSpPr/>
          <p:nvPr/>
        </p:nvSpPr>
        <p:spPr>
          <a:xfrm rot="5400000">
            <a:off x="3888360" y="3609000"/>
            <a:ext cx="1368360" cy="576360"/>
          </a:xfrm>
          <a:custGeom>
            <a:avLst/>
            <a:gdLst>
              <a:gd name="textAreaLeft" fmla="*/ 213840 w 1368360"/>
              <a:gd name="textAreaRight" fmla="*/ 1197360 w 136836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3492360" y="4600440"/>
            <a:ext cx="28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1 000 000 c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PT" sz="4000" spc="-1" strike="noStrike">
                <a:solidFill>
                  <a:srgbClr val="ff5050"/>
                </a:solidFill>
                <a:latin typeface="Arial"/>
              </a:rPr>
              <a:t>Problemas com escalas</a:t>
            </a:r>
            <a:br>
              <a:rPr sz="4000"/>
            </a:b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Os problemas com escalas permitem-nos encontrar três elementos:</a:t>
            </a:r>
            <a:br>
              <a:rPr sz="3200"/>
            </a:b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 distância real;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 distância no mapa;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- a escala do mapa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escala"/>
          <p:cNvPicPr/>
          <p:nvPr/>
        </p:nvPicPr>
        <p:blipFill>
          <a:blip r:embed="rId1"/>
          <a:stretch/>
        </p:blipFill>
        <p:spPr>
          <a:xfrm>
            <a:off x="1476360" y="1741320"/>
            <a:ext cx="6120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calculo dist mapa"/>
          <p:cNvPicPr/>
          <p:nvPr/>
        </p:nvPicPr>
        <p:blipFill>
          <a:blip r:embed="rId1"/>
          <a:stretch/>
        </p:blipFill>
        <p:spPr>
          <a:xfrm>
            <a:off x="250920" y="3159000"/>
            <a:ext cx="5688000" cy="3422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1640" y="277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álculo de Distâncias no Ma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132000" y="1268280"/>
            <a:ext cx="1467000" cy="1362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20560" y="1268280"/>
            <a:ext cx="234000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Enunciado: A distância real entre Lisboa e Madrid é de 600 Km. A que distância se encontram separadas estas duas cidades num mapa de com Escala de 1/20 000 000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 flipH="1">
            <a:off x="2141280" y="2168640"/>
            <a:ext cx="1260360" cy="27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3762360" y="1898640"/>
            <a:ext cx="179280" cy="29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032360" y="2349360"/>
            <a:ext cx="179280" cy="297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611280" y="306720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Resolu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madrid"/>
          <p:cNvPicPr/>
          <p:nvPr/>
        </p:nvPicPr>
        <p:blipFill>
          <a:blip r:embed="rId3"/>
          <a:stretch/>
        </p:blipFill>
        <p:spPr>
          <a:xfrm>
            <a:off x="4572000" y="1628640"/>
            <a:ext cx="45720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7:59:51Z</dcterms:created>
  <dc:creator>Felipe Mendes</dc:creator>
  <dc:description/>
  <dc:language>en-US</dc:language>
  <cp:lastModifiedBy>Anabela</cp:lastModifiedBy>
  <dcterms:modified xsi:type="dcterms:W3CDTF">2012-07-12T16:56:19Z</dcterms:modified>
  <cp:revision>12</cp:revision>
  <dc:subject/>
  <dc:title>       A ESCALA   A ESCALA estabelece a relação entre as distâncias no mapa e as distâncias reais correspondentes, ou seja, indica-nos quantas vezes a realidade foi reduzida. </dc:title>
</cp:coreProperties>
</file>